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BA12-C174-4EF0-8E72-ACDB9241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91D-007E-4542-BF51-8AE427C8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9F6-B510-45D1-BD90-D0EDB897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604-CA32-4468-A744-EDEF53A7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A9B-467E-48A9-B6E7-D0F6BF9D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1E1-EF53-4C57-BCBF-DB304F66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4E0-20F3-4BDF-B6F0-10B180CF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F63-D11C-49BF-BE3E-D0904C68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152-EFD1-49E6-8052-3B522CE6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767-D2C1-4CAC-9AEC-1FF861AF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CE2-0163-4232-92DB-DD8B9F1A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EB6-7541-4C3D-83BD-B27ACA56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680F-A771-4FE2-8CE8-F905914F9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228960" y="18288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’s birthday was in February just like George Washington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coln was good to be our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cool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41960" y="42577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very nice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aved our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glad he is our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41960" y="42577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06:59Z</dcterms:created>
  <dc:creator>smuser</dc:creator>
  <dc:description/>
  <dc:language>en-US</dc:language>
  <cp:lastModifiedBy>smuser</cp:lastModifiedBy>
  <dcterms:modified xsi:type="dcterms:W3CDTF">2010-02-02T16:54:41Z</dcterms:modified>
  <cp:revision>2</cp:revision>
  <dc:subject/>
  <dc:title>Comparing Presidents</dc:title>
</cp:coreProperties>
</file>